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A2D-DB85-46D6-86EA-50D98B81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9CA-8AAB-40B2-9118-9883F47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799-A438-436D-82A5-F4E5DCFF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12B-1EC0-4D37-B58F-CD2F0547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AA2-8875-4064-A987-EEC6C14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AF5-E8F7-46AA-B434-380CBE72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0BB-5618-43D7-A0EB-6FBAE21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A45-DB63-47A5-A72D-481709E4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C04-F96B-4E53-9275-A224898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683-1AA7-41D6-9430-2B37932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00E-FC31-4AA6-84C1-E6DF0AC7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BC5-6B67-47AD-A1E5-B2298DD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ED5-8584-484F-9060-9E76BF8D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372 0.71991 C 0.52362 0.73311 0.53473 0.73936 0.54705 0.74769 C 0.56164 0.75741 0.55539 0.75811 0.56789 0.76436 C 0.57605 0.76853 0.59289 0.77547 0.59289 0.77547 C 0.59566 0.77917 0.59775 0.78427 0.60122 0.78658 C 0.60903 0.79191 0.62622 0.79769 0.62622 0.79769 C 0.63785 0.8132 0.64271 0.80973 0.65539 0.81991 C 0.65973 0.82339 0.66355 0.82778 0.66789 0.83103 C 0.67327 0.83519 0.68021 0.83635 0.68455 0.84214 C 0.69671 0.85834 0.70504 0.86436 0.72205 0.86991 C 0.72674 0.87408 0.73646 0.8838 0.74289 0.88658 C 0.74827 0.8889 0.75417 0.88936 0.75955 0.89214 C 0.77362 0.89908 0.78768 0.91089 0.80122 0.91991 C 0.80643 0.92339 0.8125 0.92269 0.81789 0.92547 C 0.82362 0.92848 0.829 0.93288 0.83455 0.93658 C 0.84566 0.94399 0.85678 0.9514 0.86789 0.9588 C 0.8757 0.96413 0.89289 0.96991 0.89289 0.96991 C 0.90886 0.99121 0.93073 0.99306 0.95122 1.00325 C 0.96528 1.01019 0.97553 1.02339 0.98872 1.03103 C 0.99393 1.03403 1 1.0338 1.00539 1.03658 C 1.0198 1.04376 1.03247 1.05788 1.04705 1.06436 C 1.05122 1.06621 1.05556 1.0676 1.05955 1.06991 C 1.06528 1.07316 1.07032 1.07848 1.07622 1.08103 C 1.08455 1.08473 1.09393 1.08566 1.10122 1.09214 C 1.10747 1.09769 1.11476 1.1051 1.12205 1.1088 C 1.17362 1.1345 1.225 1.15927 1.27622 1.18658 C 1.28021 1.18866 1.28455 1.19052 1.28872 1.19214 C 1.29428 1.19422 1.3 1.19491 1.30539 1.19769 C 1.31112 1.2007 1.31615 1.20626 1.32205 1.2088 C 1.34202 1.2176 1.36042 1.22778 1.38039 1.23658 C 1.39653 1.24376 1.41112 1.25417 1.42622 1.26436 C 1.43021 1.26691 1.43473 1.2676 1.43872 1.26991 C 1.45851 1.28126 1.47778 1.29584 1.49705 1.3088 C 1.50261 1.31251 1.50816 1.31621 1.51372 1.31991 C 1.51719 1.32223 1.51893 1.32778 1.52205 1.33103 C 1.5316 1.34052 1.53039 1.33103 1.53039 1.34214 E"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00:28Z</dcterms:modified>
  <cp:revision>19</cp:revision>
  <dc:subject/>
  <dc:title>Folie 1</dc:title>
</cp:coreProperties>
</file>